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EC9F-5144-45A5-A8B8-D116C20B1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BA8C-FCAF-4BE1-9894-414FD63E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D0FE-0FE0-4F80-8376-6F7D16FFF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B03C-D9A5-4402-9A8A-03925C162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359D1-D843-4DF5-9539-6ECF61195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9D44-844C-485E-BF11-63790A06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423A-2326-4EA0-92EF-6D24BC01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8A1DB-0909-47B9-AB5C-2E088492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E089-50F3-4DFA-AFDC-AE39E95E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7D80-D862-4960-92E7-DB1C2568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B2D5-3B2A-4B62-B39B-9D1A310D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6BEE-B91F-4009-B41A-AC8708E5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FB05-A3B5-4382-8452-24F915C7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B44B-22C1-4E60-A838-0453BBC1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8F8C1-DE23-4B4D-8A55-0D029B12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AC02-83E2-4553-9E91-1EB20E509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FE9B-C33A-4AED-B9DF-75A59AD88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4703-B742-4BDA-977D-4D39FD04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1178-746A-40AD-BAF7-0AD98495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5119-88DA-463E-83CF-3B121885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8C41-795B-41A7-9FFD-AB3FBF7C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E608-E89C-4BC5-B5FC-020EE0A5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BEE8-FEF3-43E6-AF17-5B73B4D3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5C1F-4DB6-473A-B5FE-B8B73338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172F-9856-4816-9299-ACF7033657F3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CFC3-810D-4E6F-B077-0E3FD0253183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55640" y="404640"/>
            <a:ext cx="7704000" cy="5400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619280" y="1125360"/>
            <a:ext cx="5977080" cy="393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ndalus"/>
              </a:rPr>
              <a:t>بناء المساكن بين الحاجة والترف .....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ndalus"/>
              <a:ea typeface="Andalu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ndalus"/>
              </a:rPr>
              <a:t>للشيخ / عبدالسلام برجس -رحمه الله-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ndalus"/>
              <a:ea typeface="Andalus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19640" y="2536920"/>
            <a:ext cx="216036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11280" y="333360"/>
            <a:ext cx="7848360" cy="6048360"/>
          </a:xfrm>
          <a:prstGeom prst="rect">
            <a:avLst/>
          </a:prstGeom>
          <a:gradFill rotWithShape="0">
            <a:gsLst>
              <a:gs pos="0">
                <a:srgbClr val="aa845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e85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آية كريمة في سورة الشعراء، استوقفتني كثيراً، فيها عبرة، ونقد، وتوجيه: انها افتتاح الانتقادات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التي وجهها هود –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على نبينا وعليه الصلاة والسلام - الى قومه «عاد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» بعد ان دعاهم الى الله، وأمرهم بطاعته: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«أتبنون بكل ريع آية تعبثون. وتتخذون مصانع لعلكم تخلدون. واذا بطشتم بطشتم جبارين».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انه - عليه السلام - ينتقد عبثهم بالبنيان، والعبث بالبنيان: تشييده لمجرد التباهي بالقدرة عليه،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قدرة جسمية في بنائه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 وعقلية في تصميمه وهندسته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 ومالية في الانفاق عليه، فهو بناء لغير نفع.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وفي هذا الانتقاد توجيه الى ان الجهد والبراعة وإنفاق المال انما يكون في البناء ال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ضروري المثمر خير الدين،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وسداد الدنيا.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هذه الآية وجهت الى قوم «عاد» فما نصيبنا منها امة محمد صلى الله عليه وسلم؟ لبيان ذلك انقل أثرين من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آثار سلفنا الصالح: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الاول: عن مجاهد بن جبر - المتوفى وهو ساجد بمكة المكرمة سنة </a:t>
            </a: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104</a:t>
            </a: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ه - حيث قال:«ليس احد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أشبه فِعالاً بعاد من ا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مة محمد صلى الله عليه وسلم، قال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«أتبنون بكل ريع آية تعبثون» فقد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 والله فعلوا. اخرجه ابن ابي حاتم في «تفسيره» «</a:t>
            </a: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9/2794</a:t>
            </a: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».</a:t>
            </a: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50920" y="260280"/>
            <a:ext cx="8497800" cy="6337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ec85e"/>
              </a:gs>
            </a:gsLst>
            <a:lin ang="135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الثاني: ما أخرجه ابن ابي حاتم - ايضاً - في تفسيره عن عون بن عبدالله بن عتبة، ان ابا الدرداء رضي الله عنه لما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رأى ما احدث المسلمون في الغوطة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من البنيان، ونصب الشجر،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قام في مسجدهم، فنادى: يا اهل دمشق! فاجتمعوا اليه. فحمد الله، واثنى عليه، ثم قال: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ألا تستحيون الا تستحيون، تجمعون مالا تأكلون، وتبنون مالا تسكنون، وتؤملون مالا تدركون.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قد كانت قبلكم قرون يجمعون فيوعون، ويبنون فيوثقون، ويأملون فيطيلون، فأصبح املهم غروراً، وأصبح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جمعهم بوراً، واصبحت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مساكنهم قبوراً.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الا إن عاداًَ ملكت ما </a:t>
            </a: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بين</a:t>
            </a: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 عدن وعمان خيلاً وركاباً من يشتري مني ميراث عاد بدرهمين؟ففي هذين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 الاثرين غنى عن التوسع في ال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تعليق عما نعايشه هذه الايام من البناء للتباهي ل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ا للسكن، ابتداء من شراء الارض، فأجره المهندس، فالنار المحرقة للمال «البناء» فالاثاث المكمل «للديكور».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مهلاً فانا لا اريد إنكار البناء، فهذا لا يقوله احد، انما اريد ان امنع </a:t>
            </a: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بين</a:t>
            </a: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 يديك ما جاء به دين الاسلام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وملة محمد عليه الصلاة والسلام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في قضية البناء: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أجمع علماء المسلمين على انه يلزم كل امرىء تحصيل مسكن له، ولمن تلزمه نفقته فمن حصل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 مسكناً له ولأهله، ببناء بيت،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او اكترائه، فقد سلم من الاثم.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كما رغّب الاسلام في سعة البيوت بكبر مساحتها، حيث صحَّ عن النبي صلى الله عليه وسلم ان م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ن سعادة المرء المسكن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 الواسع وان المسكن الضيق من الشقاء.</a:t>
            </a: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9640" y="333360"/>
            <a:ext cx="8136000" cy="619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6600"/>
              </a:gs>
            </a:gsLst>
            <a:lin ang="13500000"/>
          </a:gradFill>
          <a:ln cap="rnd" w="76320">
            <a:solidFill>
              <a:srgbClr val="5e855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وللاسلام موقف واضح من المساكن التي شيدت على اساس التفاخر والتباهي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، أوجز ذلك الموقف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في الفقرات التالية:</a:t>
            </a:r>
            <a:br>
              <a:rPr sz="1800"/>
            </a:b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1</a:t>
            </a: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- ليس لمن بنى بيتاً من غير حاجة، اوفوق ما يحتاجه، اجر، لما في «الصحيحين»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عن خباب بن الارت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رضي الله عنه انه قال وهو يبني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حائطاً له «إن المرء المسلم يؤجر في نفقته كلها، الا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في شيء يجعله في التراب» ورواه الترمذي مرفوعاً الى النبي صلى الله عليه وسلم من قوله.</a:t>
            </a:r>
            <a:br>
              <a:rPr sz="1800"/>
            </a:b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ومعنى «في التراب» اي البنيان الذي لم يقصد به وجه الله، وقد زاد على ما يحتاجه لنفسه و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عياله على الوجه اللائق.</a:t>
            </a:r>
            <a:br>
              <a:rPr sz="1800"/>
            </a:b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2</a:t>
            </a: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- البناء بهذه الصفة من علامات قرب الساعة، وزوال الدنيا. ودليل ذلك ما رواه البخاري 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ن ابي هريرة رضي الله عنه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ان رسول الله صلى الله عليه وسلم قال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« لا تقوم الساعة..وحتى يتطاول الناس في البنيان».</a:t>
            </a:r>
            <a:br>
              <a:rPr sz="1800"/>
            </a:b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وروى البخاري ايضاً في الادب المفرد عن ابي هريرة رضي الله عنه عن النبي صلى الله عليه وسلم انه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قال لا تقوم الساعة حتى يبني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الناس بيوتاً يوشُّونها وشي المراحيل»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ومعنى «يوشونها»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333360"/>
            <a:ext cx="8280360" cy="525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a8456"/>
              </a:gs>
            </a:gsLst>
            <a:lin ang="13500000"/>
          </a:gradFill>
          <a:ln cap="rnd" w="76320">
            <a:solidFill>
              <a:srgbClr val="eaeae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ينقشونها ويصبغونها بأنواع الالوان المختلفة كما تنقش الثياب والفرش ومعنى:«المراحيل» الثياب المنقوشة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بنقوش تشبه رحال الابل.</a:t>
            </a:r>
            <a:br>
              <a:rPr sz="1800"/>
            </a:b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3</a:t>
            </a: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- اخبر الصادق المصدوق عن حال الذين يبنون للمباهاة بما يردع غرورهم وتعاظمهم،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ففي حديث عمر بن الخطاب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رضي الله عنه ان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النبي صلى الله عليه وسلم اخبر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عن علامات الساعة فقال:«وان ترى الحفاة العراة العالة رعاء الشاء يتطاولون في البنيان».قال الحافظ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ابن رجب رحمه الله تعالى _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في جامع العلوم والحكم «</a:t>
            </a: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1/137</a:t>
            </a: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» والمراد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ان اسافل الناس يصيرون رؤساءهم، وتكثر اموالهم، حتى يتباهون بطول البنيان وزخرفته واتقانه.</a:t>
            </a: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1T13:45:33Z</dcterms:created>
  <dc:creator>user</dc:creator>
  <dc:description/>
  <dc:language>en-US</dc:language>
  <cp:lastModifiedBy>user</cp:lastModifiedBy>
  <dcterms:modified xsi:type="dcterms:W3CDTF">2004-07-11T14:11:37Z</dcterms:modified>
  <cp:revision>6</cp:revision>
  <dc:subject/>
  <dc:title>Slide 1</dc:title>
</cp:coreProperties>
</file>